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6BA1-1D6E-4147-90F8-A1FD1F91A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metaphors and similes for each media you discuss and have students make flash cards with the media name on one side and the metaphor on the other side. Use them to help students remember media characteristics (and the difference between similes and metaphor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D665-CAF5-47E5-BFCA-8F49B1B1A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74ACD-742A-44AE-8555-EB241903B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58C0AC90-EE26-4AA0-83DE-C0AC1779C0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E68A36-849D-43F2-A112-569DA718FB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0DC53F-A4AE-4114-9ABE-DBE2C9C86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B79A9-38A3-479A-9DF3-2D3112141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55E6C-266B-4E94-8D58-F95D792EF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95A67-FCA6-4854-A0FF-E651F8A06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D515D-169C-44CB-8DC2-43A51765F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B4BAF-130E-4E4F-AAE7-FD889A5BD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B232C8-364F-483D-853F-2EF9BF9089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60A144-A517-4566-8EEB-7E1BDCF99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9330D6-5CF4-4418-8361-0826F386A0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A2B56E5D-9CA5-434C-8BB3-2F7F8DE2A6F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F9297-77E4-4A95-BA95-25D161A28C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36CF6C-3D4D-4424-B2A9-03EBF9B79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AA63B-8042-4664-B972-ADF7D82F40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207C3-C837-4846-9B3A-1D0C03CF0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6FE909-B01A-490D-A4F4-0543D1138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CD227-AF33-4478-89CB-5BF49B383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D11BF-B484-49B2-A59B-949B99B97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C8FCE6-FB58-4519-AE06-72046D822C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DD9CFA-530E-4972-945F-864C111C1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B21A88-7A51-4884-A2E5-1000DEE2E9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9A53F2B2-CFEC-415D-8148-0D2BCD1EFA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1533F3-9C79-4031-8A72-E390FA7F10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1D9DBC-E09C-4FB6-928D-8B35C091DA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67B773-5763-45DA-84F9-C8F5F23440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492CC4-5946-433A-A320-24081F047A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A4E4DF-F521-4303-AECF-1A62709713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69FD96-98AF-4376-91C1-E3A8B87C66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8FE3D2-1A68-4593-A736-71909871BB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262A84-AB5D-4F1E-AF10-730A07ED48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62E2B0-82BD-4C36-BD90-955CBD867F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01BA4D-9C7A-4785-B685-582BF1EFB4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01CFA8-135C-472F-9E27-5A73CC46A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E47F0-4E8B-4ED0-9D59-6CAE47C5FB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1A2071-7789-43F8-94C2-BE4159A050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1E99F2-651F-490E-887F-589C7BCD47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81423B-6ED8-4772-9E29-B3734D6ED3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EC45F1-9843-4D81-B8AF-291E36F246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EBC626-B7B2-4FBF-9B09-583313478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6E4933-2D19-4A03-9230-6DC6E59FBD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6BB3EB-D8BA-4321-BD2C-51DD7A7DA2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257205-E1CF-436C-9C18-E80C07D76A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B7C668-B1ED-4C17-AEFA-C0089F2B2A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7662F63-0478-48F4-87E1-60A14991D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794F40-9462-4458-866E-4F0E05E830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999268-1EC7-4684-896B-72BDEF0CF9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3B07D3-B2BC-4933-8223-BE3AA74D4C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CA16D7-AABB-4CC9-A3C0-9662AA5B45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F55D0D-6409-447F-ACB4-C82FCC3497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E32E36E5-3FDE-4FF7-8353-66B00A2FF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5A77E7AE-3E47-452A-84AB-D7FDAB1E2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4602ED1D-AF27-43E5-954E-536E13F64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CCF04107-192A-45A8-9395-3366CD6F7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7B729AC-E52B-44B8-9E95-0712534DB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3EA2F5CC-AEC9-4906-A81A-97020D19F1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2D9DDABC-CC5F-4B0D-9427-42F68C4C2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D81EEF2-E105-402D-B959-5E92EDA1A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64828ED-1D4C-4669-907D-DBCCE9C8A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2559FD35-5D19-4DE6-85E7-32AB9BB53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4F34636E-9924-45DA-B533-610A974C4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18C60-4746-4BE6-8600-AEF89927A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4F3F2-1A59-4B39-BF29-6CA96EEAA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CF0C-4059-43F2-B8F7-683926EC9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AC5DE-7B9C-45A0-B227-11590A9E0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1E87C-57E2-4AB5-BBA2-7BA0FD640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88049A01-EF49-4280-99D8-8B45E720A3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7A107-9CD8-4A2B-911D-F6D76FC1E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9E22B-6E51-4AB0-A4D4-91A536878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7F58-7F82-4672-B8C8-AA112A4CD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0F7B0-B387-460A-8981-FFF60BEC3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3C3F9-EF10-4323-B84C-6092221C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0B4F1-A299-4336-AB02-3B7ED2D6B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875D1-7B44-42B3-9B72-7D70584BA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B0A63-63BD-421B-A2BD-7BA019F06E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6C53C-48BC-46C2-AF31-D6C9A405E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101CD-6E01-49BD-9C01-B9731BF82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D242BCBA-E8B0-4002-8FB0-2AAADB9B92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BB9B9-3DCA-4004-951D-2303803B4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06792-D14A-44C4-8938-267B9C651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286BF-19AF-49FD-8D87-85B4C9C00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418FD-7AF4-4165-B9B3-2152D6AE9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A93BF-9175-4E61-9183-236A25A7E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E3C5F-AF6B-4377-AEEA-21BA58E35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4AD21-1E7C-4257-8B5F-7D34057D4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094324-C999-46F5-A7E0-375376606A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41160-52D4-4671-AA67-4992BD34A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38DDFD-B1FC-4996-9D0C-05CEF185A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03FA29FF-2FCC-4310-9FA0-938A1DC8C8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E6E59-AE8D-4F01-A3B8-EC71271CD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37462-57F8-45DB-A589-2DFBC0086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074BD-8098-4D03-A739-8F42D8186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C0156-F4FE-4EBB-971C-63E520DA5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A1FD5-BD8D-4476-8267-9D7618468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CFD36-C298-47A7-9683-244EC69C6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E59D2-077A-4176-9FB4-F7F49C43A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B0AFE-A280-4434-A9EB-0CB1776E1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76119-CFF8-41E3-852F-8200465A5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5B0C5-8B69-4877-BEF1-6AD6CF289F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E72A853D-F302-4280-A0C5-7646AFFD06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11859-6479-4720-8DFB-78EF0256E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EF1C86-0A20-473B-9024-C55451896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69850-992C-4017-8AC0-A2A7694DF3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3EB96-843B-4E5A-9C0E-1F864C901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5EA730-DEA1-4434-AA09-5409D4641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533D3-F653-48F4-A3BF-FCD53762F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7D6D2-675F-4C29-B349-EDBA32B1C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CAD5D-1A56-4753-AF53-51CBD7721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5BA5A-237A-455B-AB71-92417A626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E6F15-DF50-4ED5-B21C-500A9336E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023037E-358F-4CD5-955B-5F2BCC620A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5F678-09A3-4AA6-BB14-9330C2C36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6E34F-8D99-4A52-A7C5-D514CB71E9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979C98-95B1-4217-BEC1-F637103853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BEC69-62D2-4F3B-B376-C3BA844288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2693E-1166-4B4C-9E8E-68B8174864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9B347-0F0A-41B1-95F9-3DFE470408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85099-833E-42EF-A58B-C3E7E8632F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6E5F9-1D50-41FB-AEC6-6D619A9B5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260D2-7D4E-4CDF-9F3C-8F42A0CFA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74715D-C875-4E50-9E4C-DE519BB5C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711ACF4-683B-407D-BFF9-C4ADCF80E1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C1719-6731-4882-9C6A-D17E43A99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44F8C0-C847-4C81-AC70-FA8E962D4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3DACA-48D8-4BD8-AC44-1873A65D8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19D45F-756E-4445-B757-EDEF13E83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F104B-38D8-4867-AB0E-BDD501AB9E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B17F8-C003-4FED-A25F-CBD5610469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B53DA-2278-4AAF-8A55-041E248F1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D55B28-9119-437F-A7D6-F80985C15C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4595B-F942-4209-ACC4-E2D8CAFF0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266A5-9C32-4365-8B90-BCEB03EE5F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572A92BA-4A17-44D4-A2D0-A1C49CF801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E958E-C7E0-44CB-B9F7-D7062ABD8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9DC1D7-BDCB-47E9-B93E-99A8A7806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8D6C9-5C9E-464D-AC3B-27B073C07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6F787-2C88-4B8E-95A5-B33DEE7ED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AE9D5-C09C-40E7-9EEB-C92E618A3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4BA95B-A105-48DB-BDA1-AE78F57191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E93991-F626-4F2C-83F5-83DD4FA87C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8FF4AD-EFF2-4D5D-BBC8-F1FD4853F0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34F3D6-C9A1-4A1D-91B9-6FB3785026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9F460-AB95-4029-83F6-6202157BC9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F8AC-6433-4C33-BFCA-1704751D53D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48DE-22DB-476D-AE31-B035D0BD012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BF05-8C4A-440B-A503-6A38434AAAC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E440-A5FD-43EA-9EAE-A46EAAEFDF5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A121-B3C0-4A52-BC84-0A281A32BD1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01F4-EFD8-4657-A894-EB064DA51FC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52AC-3160-4C47-A89B-8916CAF083AD}"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0408-F4FD-4E56-BFC6-33543D40B97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B021-7387-4A75-9C12-A074456B3CC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FCBB-6677-4418-8F42-527E5A7883F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F7D8-8E58-407E-AED9-7B6212A1446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CD46-ADE6-4119-AE30-D0CB205E9EC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2</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and</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and, a basic component of soil, ranges in particle size from 0.05mm to 2.0mm in diameter. Medium and coarse sand particles are those that provide optimum adjustments in media texture, resulting in increased drainage and aeration. Although sand is generally the least expensive of all inorganic amendments, it is also the heavies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560" y="1554120"/>
            <a:ext cx="875988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adding sand to the media, water flow hit warp spe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t didn’t actually go that fast, but it did help speed water flow.</a:t>
            </a:r>
            <a:endParaRPr b="0" lang="en-US" sz="20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and acts like tiny balloons in the soil media.</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wo unlike things are compared.</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Perlit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erlite is a siliceous mineral of volcanic origin. The grades used in container media are first crushed and then heated until the vaporization of combined water expands it to a light, powdery substance. Lightness and uniformity make perlite very useful for increasing aeration and drainage. Perlite often floats during irrigation or plant watering.</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small groups to create a metaphor and simile that highlight perlite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dding perlite to the media created more elbow room for plant root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re are not actual elbows down there, but it does create more space for roots to grow.</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erlite is like thousands of fluffy snowbal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white and airy as the points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phagnum mos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phagnum moss is the dehydrated remains of acid-bog plants from the genus Sphagnum (i.e., Spapillosum). It is light in weight and has the ability to absorb 10 to 20 times its weight in water. This is attributed to the large groups of water holding cells, which is characteristic of the genus. Sphagnum moss contains specific substances that help it inhibit damping-off of seedlings.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as individuals to create a metaphor and simile that highlight Sphagnum moss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the Under Armor® of plant media.</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No workout clothes are in the plant pot , but both are light and moisture-absorbing.</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as thirsty as a guy stranded in the desert for 10 day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extreme thirst as the point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Horticulture students use metaphors and similes to distinguish planting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RT 4.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ine soils and planting medi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tinguish soil mix materials and characteristic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3.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nd explain literary devices within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literary devices and communicate their effect within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taphor</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imil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s and similes are both figures of speech used to draw comparison. They are typically used to add color and voice to text. Formal and technical writing typically avoids the use of either metaphors or simil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metaphor is an analogy between two objects or ideas. The analogy is conveyed by the use of a metaphorical word in place of some other wor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ucking bull was a steamroller and sports car in on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Creates the analogy that the bull was both strong and quick.</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His question shown light on the issue that no one had been willing to addres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question didn’t actually create a light.</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Jill’s comment created a code red emergency among the 7th grade gir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comment didn’t create an actual emergency – just the reaction as if it were on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simile is a figure of speech comparing two unlike things, often introduced with the words "like" and "as." Occasionally, a simile uses the word “than” to compare to unlike thing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he kicks as hard as a mul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edroom closet was like the aftermath of a tornado.</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 am happier than a puppy with two tail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8:21:50Z</dcterms:modified>
  <cp:revision>1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38164453</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